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252-EF3A-4254-AAF7-A7E0B4F7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BB1-C57A-4BE3-B151-2B84A9BA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733-2B4E-4CE5-BA35-B134FF7A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398-852C-472E-8924-1287781C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287-1616-48CD-B865-B50A8415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E7C-0DA2-4B99-AEEB-F78AAFCF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4F7-C42A-47AD-90D4-4DE51CA5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2CF-E4A0-484A-86F0-1DC15711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76C-0A56-4B10-946A-2D9D5F08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691-C165-4D1B-9D69-DD01AFDA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04D-CECC-4D61-A9CD-4ACAB252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ED7-8E80-4E63-B6FA-F1D51F3D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190A-C32C-4511-BE1C-2EEF7DF83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3"/>
          <p:cNvSpPr/>
          <p:nvPr/>
        </p:nvSpPr>
        <p:spPr>
          <a:xfrm>
            <a:off x="0" y="0"/>
            <a:ext cx="5715000" cy="76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 2-21 &amp; 22-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ix Weeks Focus TEST next block day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762120"/>
            <a:ext cx="373392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Focus tod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pen up your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x Weeks Focus Document and check for the following foc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1 &amp;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7 &amp;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19 &amp;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. 25 &amp;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 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3 &amp;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b. 15 &amp;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images.nationalgeographic.com/wpf/media-live/photos/000/004/cache/african-lion-male_436_600x450.jpg"/>
          <p:cNvPicPr/>
          <p:nvPr/>
        </p:nvPicPr>
        <p:blipFill>
          <a:blip r:embed="rId2"/>
          <a:stretch/>
        </p:blipFill>
        <p:spPr>
          <a:xfrm>
            <a:off x="4191120" y="10666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44" name="Cloud Callout 6"/>
          <p:cNvSpPr/>
          <p:nvPr/>
        </p:nvSpPr>
        <p:spPr>
          <a:xfrm>
            <a:off x="6553080" y="0"/>
            <a:ext cx="1752840" cy="1527120"/>
          </a:xfrm>
          <a:prstGeom prst="cloudCallout">
            <a:avLst>
              <a:gd name="adj1" fmla="val -46078"/>
              <a:gd name="adj2" fmla="val 97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781680" y="4572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your focuses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2:17:49Z</dcterms:created>
  <dc:creator>poweruser</dc:creator>
  <dc:description/>
  <dc:language>en-US</dc:language>
  <cp:lastModifiedBy>poweruser</cp:lastModifiedBy>
  <dcterms:modified xsi:type="dcterms:W3CDTF">2012-02-23T13:40:31Z</dcterms:modified>
  <cp:revision>131</cp:revision>
  <dc:subject/>
  <dc:title>Slide 1</dc:title>
</cp:coreProperties>
</file>